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amera.wav" ContentType="audio/x-wav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008-2DE0-4DB4-8C06-6862AD94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D55-D8EE-403F-BFF1-94D15350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453D-BE61-4E57-B240-4F558F47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5B5A-1371-4F45-BCE0-3141E530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92706-FCB3-4150-B380-960D9805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56144-3C96-4508-BA9B-1E8D0163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60829-FB6A-4CD6-8A4C-99B68C7F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B9436-7171-4C44-ABD3-EF861848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F787A-A38B-478F-BD75-A5A992EC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E3686-53D7-4541-8670-B6A72319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79F6A-A07C-4B75-9ED7-9427C407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F6C-3B04-4455-A21B-583BB03C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0868A-7A89-4AAE-AC9D-69D2D0F1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39124-C6EB-4F80-813B-4967B3F5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1BB8C-C228-43C7-80AA-C13AAF6B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969B2-FBCD-4364-9A08-FA11ADBD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6F1C0-E5F5-4939-88FF-9AF76D8E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437-409D-435B-9AED-72F3449A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D83A-FA77-4423-A892-CDF01A88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2486-1783-46F0-A6D5-07A923CF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A9C-1A21-4291-B27F-B8EF1AC8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0819-F06F-489B-BC40-8D193FB9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3E4-E5B2-4A48-B01B-DD214723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7BB-4599-41CF-9929-FC575ADE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0DC3-7C15-400A-87E7-055FAFEAD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18DF-9E10-4EEF-92E5-0B9410761A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z.wrs.yahoo.com/_ylt=A0S0zvm2E35MTQUA4cj1Zgx.;_ylu=X3oDMTBpc2VvdmQ2BHBvcwM3BHNlYwNzcgR2dGlkAw--/SIG=1jul3jhjt/EXP=1283417398/**http%3A//nz.images.search.yahoo.com/images/view%3Fback=http%253A%252F%252Fnz.images.search.yahoo.com%252Fsearch%252Fimages%253Fp%253Dgoat%252Bisland%252Bnz%2526ei%253Dutf-8%2526fr%253Dyfp-t-501%26w=640%26h=480%26imgurl=www.goatislanddive.co.nz%252FPicsHotel%252Fgoatisland%252FImages%252Fcorp-group-snork1.jpg%26rurl=http%253A%252F%252Fwww.goatislanddive.co.nz%252FGoat_Island_Dive%252FSnorkel___Kayak_Day_IDL%253D1_IDT%253D2424_ID%253D13858_.html%26size=18k%26name=corp%2Bgroup%2Bsnork...%26p=goat%2Bisland%2Bnz%26oid=d760445d8e0ec576%26fr2=%26no=7%26tt=762%26sigr=1324dgutr%26sigi=12a40v66o%26sigb=12m6d8og7%26type=JPG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wallingfordvt.com/BS01029_.gif&amp;imgrefurl=http://www.wallingfordvt.com/planning_%26_zoning.htm&amp;usg=__sZid-fazXb0arLNAh1YL-u69KIs=&amp;h=364&amp;w=331&amp;sz=9&amp;hl=en&amp;start=1&amp;tbnid=XvHK5DcvHgq8MM:&amp;tbnh=121&amp;tbnw=110&amp;prev=/images%3Fq%3Dagenda%26gbv%3D2%26hl%3D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batheastonscouts.org.uk/images/scout_images/camp.gif&amp;imgrefurl=http://batheastonscouts.org.uk/scouts/camps.shtml&amp;usg=__NzFRhQ91knk1u5pkYHGNY3koqGY=&amp;h=196&amp;w=320&amp;sz=26&amp;hl=en&amp;start=12&amp;tbnid=K3rC-Q9hmLx_XM:&amp;tbnh=72&amp;tbnw=118&amp;prev=/images%3Fq%3Dcartoon%2Bcamp%26gbv%3D2%26hl%3De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nz/imgres?imgurl=http://static.bigstockphoto.com/thumbs/3/3/5/large/5330705.jpg&amp;imgrefurl=http://www.bigstockphoto.com/photo/view/5330705&amp;usg=__bdLLS9vfLKVo3X9E3-DZGJylrgc=&amp;h=370&amp;w=210&amp;sz=17&amp;hl=en&amp;start=17&amp;tbnid=-6LsHmD8VnQgNM:&amp;tbnh=122&amp;tbnw=69&amp;prev=/images%3Fq%3Dcartoon%2Bcamp%26gbv%3D2%26hl%3De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.nz/imgres?imgurl=http://www.bradfitzpatrick.com/stock_illustration/images-new/household/cartoon-boots-clipart.gif&amp;imgrefurl=http://www.bradfitzpatrick.com/stock_illustration/cartoon-household-clipart/cartoon-boots-clipart.htm&amp;usg=__yGNSIsX9P1sK0q6bDMp9566qFmI=&amp;h=180&amp;w=240&amp;sz=8&amp;hl=en&amp;start=1&amp;tbnid=_hky8FChkXoMMM:&amp;tbnh=83&amp;tbnw=110&amp;prev=/images%3Fq%3Dcartoon%2Bboots%26gbv%3D2%26hl%3Den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3.babson.edu/Centers/Glavin/GPS/ISS/images/cartoon_students.gif&amp;imgrefurl=http://www3.babson.edu/Centers/Glavin/GPS/ISS/Immigration-and-Visas.cfm&amp;usg=__1yhADgTawzH5fgCusa4VUcUCMXs=&amp;h=480&amp;w=775&amp;sz=19&amp;hl=en&amp;start=17&amp;tbnid=GqxTx949mkkMHM:&amp;tbnh=88&amp;tbnw=142&amp;prev=/images%3Fq%3Dcartoon%2Bstudents%26gbv%3D2%26hl%3De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s://www.ocps.net/lc/southwest/eec/AC/Kindergarten/PublishingImages/school%2520bus.gif&amp;imgrefurl=http://www.azcentral.com/members/Blog/PoliticalInsider/t1243839600&amp;usg=__1wTZ4qhLoVGXMlWrEx95el_x6Ww=&amp;h=900&amp;w=859&amp;sz=73&amp;hl=en&amp;start=13&amp;tbnid=sW8Vt1xA6J8RBM:&amp;tbnh=146&amp;tbnw=139&amp;prev=/images%3Fq%3Dbus%26gbv%3D2%26hl%3Den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.nz/imgres?imgurl=http://www.kangaroomstorage.com/shop/standard/travel/55/snack-sac-lunch-box.jpg&amp;imgrefurl=http://blackandmarriedwithkids.com/2008/03/19/child-uses-lunch-box-as-toilet/&amp;usg=__9V4SLsKhh2CcXhEDwJWDbFg2m3c=&amp;h=300&amp;w=300&amp;sz=10&amp;hl=en&amp;start=11&amp;tbnid=YIXPptYBHeBlwM:&amp;tbnh=116&amp;tbnw=116&amp;prev=/images%3Fq%3Dlunch%2Bbox%26gbv%3D2%26hl%3De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z.wrs.yahoo.com/_ylt=A0S0zvl1E35MaAUAPav1Zgx.;_ylu=X3oDMTBpZTByOGFiBHBvcwMyBHNlYwNzcgR2dGlkAw--/SIG=1i1ihtejk/EXP=1283417333/**http%3A//nz.images.search.yahoo.com/images/view%3Fback=http%253A%252F%252Fnz.images.search.yahoo.com%252Fsearch%252Fimages%253Fp%253Dmoney%252Bclipart%2526ei%253DUTF-8%2526fr%253Dyfp-t-501%26w=462%26h=594%26imgurl=www.clker.com%252Fcliparts%252Fa%252Fc%252Ff%252Fa%252F1195437419219858921johnny_automatic_bag_of_money.svg.hi.png%26rurl=http%253A%252F%252Fwww.clker.com%252Fclipart-11442.html%26size=64k%26name=1195437419219858...%26p=money%2Bclipart%26oid=ca24ab72ae1d96c8%26fr2=%26no=2%26tt=13396%26sigr=117dmv53p%26sigi=12q2dqba9%26sigb=12l2fg5d4%26type=pn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3840" cy="244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Narrow"/>
              </a:rPr>
              <a:t>Senior Camp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 Narrow"/>
              </a:rPr>
              <a:t>Goat Island Camp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7-10 December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79920" y="4929120"/>
            <a:ext cx="1963800" cy="14623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ipe dir="d"/>
    <p:sndAc>
      <p:stSnd>
        <p:snd r:embed="rId3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We appreciate your time to come to our meeting and thank you for your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We could not do this camp with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Our wonderful parent suppor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smiling-face"/>
          <p:cNvPicPr/>
          <p:nvPr/>
        </p:nvPicPr>
        <p:blipFill>
          <a:blip r:embed="rId1"/>
          <a:stretch/>
        </p:blipFill>
        <p:spPr>
          <a:xfrm>
            <a:off x="4211640" y="5084640"/>
            <a:ext cx="1238400" cy="12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question_mark"/>
          <p:cNvPicPr/>
          <p:nvPr/>
        </p:nvPicPr>
        <p:blipFill>
          <a:blip r:embed="rId1"/>
          <a:stretch/>
        </p:blipFill>
        <p:spPr>
          <a:xfrm>
            <a:off x="3341520" y="2133720"/>
            <a:ext cx="2529000" cy="2663640"/>
          </a:xfrm>
          <a:prstGeom prst="rect">
            <a:avLst/>
          </a:prstGeom>
          <a:ln w="0">
            <a:noFill/>
          </a:ln>
        </p:spPr>
      </p:pic>
    </p:spTree>
  </p:cSld>
  <p:transition advTm="6000">
    <p:push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t Is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liminary time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sible co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draising id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19" descr="BS01029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68920" y="1773360"/>
            <a:ext cx="157176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4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ur goal for camp is for the children to have a memorable educational experience outside the classroom, with a range of challenges, skills and activities, with a particular focus on wat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2" descr="http://t2.gstatic.com/images?q=tbn:K3rC-Q9hmLx_XM:http://www.batheastonscouts.org.uk/images/scout_images/camp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6120" y="5000760"/>
            <a:ext cx="1643040" cy="1003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t0.gstatic.com/images?q=tbn:-6LsHmD8VnQgNM:http://static.bigstockphoto.com/thumbs/3/3/5/large/533070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040" y="5286240"/>
            <a:ext cx="657360" cy="116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t2.gstatic.com/images?q=tbn:_hky8FChkXoMMM:http://www.bradfitzpatrick.com/stock_illustration/images-new/household/cartoon-boots-clipart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00960" y="5715000"/>
            <a:ext cx="1047600" cy="79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roup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822960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classrooms of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ar 5 to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0 students in to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ture of age and 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ing for an excellent memorable experience with lots of challenge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us on “Ocean Around U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cartoon_studen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4840" y="5124600"/>
            <a:ext cx="2225520" cy="1379520"/>
          </a:xfrm>
          <a:prstGeom prst="rect">
            <a:avLst/>
          </a:prstGeom>
          <a:ln w="0">
            <a:noFill/>
          </a:ln>
        </p:spPr>
      </p:pic>
    </p:spTree>
  </p:cSld>
  <p:transition advTm="27000"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oat Island Cam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39640" y="335772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nt ar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318000" y="335772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oking blo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3774600" y="44370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in build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3817800" y="5786280"/>
            <a:ext cx="25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Insert photos he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 which seats 5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teachers, 80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 par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s, ? drivers (at least) to take ? students (preferably no lap bel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eak at Kawakaw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school%2520b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33360"/>
            <a:ext cx="1324080" cy="1390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snack-sac-lunch-bo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479736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Preliminary Timet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7176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rrive at camp – set up t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Introduction to snorkelling from Nikki at Whitebait Conne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norkel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Kaya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ram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Glass  Bottom Bo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Possible cos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$100 per stu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norkel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Bush wa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Glass bottom bo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Fundraising Ide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Fun run – Friday 17</a:t>
            </a:r>
            <a:r>
              <a:rPr b="0" lang="en-NZ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September – students get sponsorship per kilomet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Variety Show – Friday 29</a:t>
            </a:r>
            <a:r>
              <a:rPr b="0" lang="en-NZ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October – sell hangi’s and cakes/drin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riathlon – Saturday 20</a:t>
            </a:r>
            <a:r>
              <a:rPr b="0" lang="en-NZ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November – sell drinks/nibbles/cak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Possible truck washing in the weekend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28760"/>
            <a:ext cx="10666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21:38:00Z</dcterms:created>
  <dc:creator>Kathryn</dc:creator>
  <dc:description/>
  <dc:language>en-US</dc:language>
  <cp:lastModifiedBy>Admin</cp:lastModifiedBy>
  <dcterms:modified xsi:type="dcterms:W3CDTF">2010-09-01T08:58:16Z</dcterms:modified>
  <cp:revision>17</cp:revision>
  <dc:subject/>
  <dc:title>Senior Camp Marsden Bay Christian Camp</dc:title>
</cp:coreProperties>
</file>